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8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8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8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9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48848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0735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2884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"/>
          </p:nvPr>
        </p:nvSpPr>
        <p:spPr>
          <a:xfrm>
            <a:off x="4398840" y="0"/>
            <a:ext cx="32292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2288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3"/>
          </p:nvPr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FAA80-31A3-45AD-ABEB-F9BF2BA27B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BCC2F-893B-4F31-9BE0-91DF2F9C03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E1BD5-90C0-4CC8-A2DC-78E33260A9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AFB0A-5B41-40B8-A854-D4F6778623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04D42-6818-4327-97A6-C29830E5F6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5FAC2-BFBC-4837-9DD7-4279822989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89AD0-F8D9-41A9-BBDC-E2B3FE6280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D2D37-3F30-4AC0-8552-D6719B0067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6B098-E75F-42C3-BCAB-604DF3FB8B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895CF-449E-4EB2-8FDB-CF970837A5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7536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5C86B-D479-4A0B-8037-7117CE87C3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9F08E-F583-4839-9CE6-E7FE4D21CE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1371600" y="763560"/>
            <a:ext cx="489420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07364-42F4-40A7-BCE6-1A336FE303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79708-7BC6-45B9-872E-5CC9001261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2F55A-23E4-4660-B484-3D2AB08BAE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17579-28E8-4E7E-894A-FABF248CA5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6D833-1C7B-4339-ABDB-3B94DE408D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371600" y="763560"/>
            <a:ext cx="489276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2DC2F-A73A-4ABC-8981-0E0EB54BC9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0A692-7526-412B-8436-ADAE8C6AC9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BE06C-2C4C-4DEA-A645-6318CECEB2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516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3530160"/>
            <a:ext cx="474516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38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6600" y="8427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1480" y="8427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35301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6600" y="35301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1480" y="35301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2760"/>
            <a:ext cx="474516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516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-41400"/>
            <a:ext cx="47386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38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3530160"/>
            <a:ext cx="474516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2760"/>
            <a:ext cx="474516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59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untry Technical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December 17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22112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/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nectivity with other XOs and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mesh, up to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2.11b/g - via infrastructure access point, up to 20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ejabberd on school server, 30-40 laptops per acces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aboration, typical session &lt;1 hou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t, 30-40 laptops can share a 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, 2-3 laptops can collaborate on a Writ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rd, 8-10 laptops can share Record photos (sharing video is not suppor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e, 30-40 laptops can share Brows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Ongo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-Install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establish and train for local repair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contacts, process, pricing for ordering spare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ppropriate sysadmin, teacher train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nectivity, 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pgrades, Backups, Power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ment, test and community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tracking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calation system for OLPC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8080"/>
                </a:solidFill>
                <a:latin typeface="Arial"/>
              </a:rPr>
              <a:t>Escalation for problem tracking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grpSp>
        <p:nvGrpSpPr>
          <p:cNvPr id="275" name="Group 2"/>
          <p:cNvGrpSpPr/>
          <p:nvPr/>
        </p:nvGrpSpPr>
        <p:grpSpPr>
          <a:xfrm>
            <a:off x="1600200" y="1219320"/>
            <a:ext cx="1065240" cy="899640"/>
            <a:chOff x="1600200" y="1219320"/>
            <a:chExt cx="1065240" cy="899640"/>
          </a:xfrm>
        </p:grpSpPr>
        <p:sp>
          <p:nvSpPr>
            <p:cNvPr id="276" name="Rectangle 3"/>
            <p:cNvSpPr/>
            <p:nvPr/>
          </p:nvSpPr>
          <p:spPr>
            <a:xfrm>
              <a:off x="1600200" y="121932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4"/>
            <p:cNvSpPr/>
            <p:nvPr/>
          </p:nvSpPr>
          <p:spPr>
            <a:xfrm>
              <a:off x="1600200" y="129492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AQ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al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raining M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5"/>
          <p:cNvGrpSpPr/>
          <p:nvPr/>
        </p:nvGrpSpPr>
        <p:grpSpPr>
          <a:xfrm>
            <a:off x="1600200" y="2286000"/>
            <a:ext cx="1065240" cy="824040"/>
            <a:chOff x="1600200" y="2286000"/>
            <a:chExt cx="1065240" cy="824040"/>
          </a:xfrm>
        </p:grpSpPr>
        <p:sp>
          <p:nvSpPr>
            <p:cNvPr id="279" name="Rectangle 6"/>
            <p:cNvSpPr/>
            <p:nvPr/>
          </p:nvSpPr>
          <p:spPr>
            <a:xfrm>
              <a:off x="1600200" y="236196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600200" y="228600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lem tracking 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8"/>
          <p:cNvGrpSpPr/>
          <p:nvPr/>
        </p:nvGrpSpPr>
        <p:grpSpPr>
          <a:xfrm>
            <a:off x="3962520" y="2666880"/>
            <a:ext cx="1065240" cy="824040"/>
            <a:chOff x="3962520" y="2666880"/>
            <a:chExt cx="1065240" cy="824040"/>
          </a:xfrm>
        </p:grpSpPr>
        <p:sp>
          <p:nvSpPr>
            <p:cNvPr id="282" name="Rectangle 9"/>
            <p:cNvSpPr/>
            <p:nvPr/>
          </p:nvSpPr>
          <p:spPr>
            <a:xfrm>
              <a:off x="3962520" y="2742840"/>
              <a:ext cx="106524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0"/>
            <p:cNvSpPr/>
            <p:nvPr/>
          </p:nvSpPr>
          <p:spPr>
            <a:xfrm>
              <a:off x="3962520" y="266688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OLPC Problem Track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Text Box 11"/>
          <p:cNvSpPr/>
          <p:nvPr/>
        </p:nvSpPr>
        <p:spPr>
          <a:xfrm>
            <a:off x="152280" y="17524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2133720" y="32004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38480" y="914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962520" y="990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FAQ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Wiki Do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Release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505320" y="1828800"/>
            <a:ext cx="1217520" cy="684360"/>
            <a:chOff x="3505320" y="1828800"/>
            <a:chExt cx="1217520" cy="684360"/>
          </a:xfrm>
        </p:grpSpPr>
        <p:sp>
          <p:nvSpPr>
            <p:cNvPr id="289" name="Rectangle 16"/>
            <p:cNvSpPr/>
            <p:nvPr/>
          </p:nvSpPr>
          <p:spPr>
            <a:xfrm>
              <a:off x="3580920" y="1828800"/>
              <a:ext cx="106560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17"/>
            <p:cNvSpPr/>
            <p:nvPr/>
          </p:nvSpPr>
          <p:spPr>
            <a:xfrm>
              <a:off x="3505320" y="1980720"/>
              <a:ext cx="12175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Tr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ts val="104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(SW/HW bugs)</a:t>
              </a: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Line 18"/>
          <p:cNvSpPr/>
          <p:nvPr/>
        </p:nvSpPr>
        <p:spPr>
          <a:xfrm flipV="1">
            <a:off x="2743200" y="1200240"/>
            <a:ext cx="121932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9"/>
          <p:cNvSpPr/>
          <p:nvPr/>
        </p:nvSpPr>
        <p:spPr>
          <a:xfrm flipV="1">
            <a:off x="4267080" y="2495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20"/>
          <p:cNvSpPr/>
          <p:nvPr/>
        </p:nvSpPr>
        <p:spPr>
          <a:xfrm flipV="1">
            <a:off x="4876920" y="1580760"/>
            <a:ext cx="144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2133720" y="302868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3200400" y="914400"/>
            <a:ext cx="1440" cy="2514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1066680" y="2133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1828800" y="320040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scalation path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0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LPC Tech Sup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3276720" y="838080"/>
            <a:ext cx="914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OL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2057400" y="838080"/>
            <a:ext cx="1143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27"/>
          <p:cNvSpPr/>
          <p:nvPr/>
        </p:nvSpPr>
        <p:spPr>
          <a:xfrm flipV="1">
            <a:off x="1066680" y="150444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>
            <a:off x="2133720" y="19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764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’s Role for 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localized FAQ (based on OLPC FAQ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Network/IT documentation for country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database for deployment and for problem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which laptop goes to whic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laptops that have hw and sw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eep records of problems/resolutions to build knowledge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cal teachers/administrators with info on how to track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-Mail to OLPC for problems not resolved lo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9440" y="277920"/>
            <a:ext cx="4757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7640" y="914400"/>
            <a:ext cx="4763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ole for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repair center ideas, guidelines, troubleshooting manuals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use of problem tickets, local help centers, FAQ, documentation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the use of volunteers and local open source developmen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information on customizing activities and content; 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n Escalation path to OL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79440" y="-4140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1% shipped at no charge to cover 90 day breakage warra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OA (Dead on Arrival) XOs to seed spare parts for Repai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ct OLPC if &gt;1% failure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e. previous batteries that did not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6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PC supplies troubleshooting documentation (English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XO_Troubleshooting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supplies local repair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Small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r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Deployments: &gt;10,000 XOs direct contact with manufacturer, i.e. batteries, displays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Deployments: work with OLPC/Brightstar fo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4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sourc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/encourages contributions from man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proprietary or licens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formal suppor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lists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of 2 major releas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improvements in security, power management, collaboration, upgra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or or patch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ress urgent securit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itical bugs, Language/keyboar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Activities are developed outside of 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6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80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4520" cy="25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me: </a:t>
            </a:r>
            <a:r>
              <a:rPr b="0" lang="en-GB" sz="1800" spc="-1" strike="noStrike">
                <a:solidFill>
                  <a:srgbClr val="ccccff"/>
                </a:solidFill>
                <a:latin typeface="Arial"/>
              </a:rPr>
              <a:t>reuben@lapto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Support Conta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-techsupport@lapto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lanning for Deployment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05876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Country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ing and Choosing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col for End User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Deployment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Deployment_Guide/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Plann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 an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ose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guage and Key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available in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for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 Roll-out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ready to upgrade and image all 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 for upgrades after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-Activated Lapto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keys required, no proces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rive in default condition; countries must specify need for Anti-th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-Activated Laptops: Anti-theft in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mmended for &gt;5000 lap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ation key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loyment tech contacts must obtain activation keys and lear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ant planning required at warehouse and at activation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66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308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rastructure: Wired/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ale: Number of XOs in class a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1120" y="19224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under a tre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32552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4024440" y="1828800"/>
            <a:ext cx="593280" cy="563400"/>
            <a:chOff x="4024440" y="1828800"/>
            <a:chExt cx="593280" cy="563400"/>
          </a:xfrm>
        </p:grpSpPr>
        <p:pic>
          <p:nvPicPr>
            <p:cNvPr id="156" name="Picture 4" descr=""/>
            <p:cNvPicPr/>
            <p:nvPr/>
          </p:nvPicPr>
          <p:blipFill>
            <a:blip r:embed="rId2"/>
            <a:stretch/>
          </p:blipFill>
          <p:spPr>
            <a:xfrm>
              <a:off x="4024440" y="1828800"/>
              <a:ext cx="59220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469400" y="208476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304920" y="1905120"/>
            <a:ext cx="593640" cy="563400"/>
            <a:chOff x="304920" y="1905120"/>
            <a:chExt cx="593640" cy="563400"/>
          </a:xfrm>
        </p:grpSpPr>
        <p:pic>
          <p:nvPicPr>
            <p:cNvPr id="159" name="Picture 7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8"/>
            <p:cNvSpPr/>
            <p:nvPr/>
          </p:nvSpPr>
          <p:spPr>
            <a:xfrm>
              <a:off x="749880" y="2161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828800" y="1949400"/>
            <a:ext cx="592200" cy="563760"/>
            <a:chOff x="1828800" y="1949400"/>
            <a:chExt cx="592200" cy="563760"/>
          </a:xfrm>
        </p:grpSpPr>
        <p:pic>
          <p:nvPicPr>
            <p:cNvPr id="162" name="Picture 10" descr=""/>
            <p:cNvPicPr/>
            <p:nvPr/>
          </p:nvPicPr>
          <p:blipFill>
            <a:blip r:embed="rId4"/>
            <a:stretch/>
          </p:blipFill>
          <p:spPr>
            <a:xfrm>
              <a:off x="1828800" y="1949400"/>
              <a:ext cx="59220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11"/>
            <p:cNvSpPr/>
            <p:nvPr/>
          </p:nvSpPr>
          <p:spPr>
            <a:xfrm>
              <a:off x="2272320" y="2206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3932280" y="2468520"/>
            <a:ext cx="593280" cy="563760"/>
            <a:chOff x="3932280" y="2468520"/>
            <a:chExt cx="593280" cy="563760"/>
          </a:xfrm>
        </p:grpSpPr>
        <p:pic>
          <p:nvPicPr>
            <p:cNvPr id="165" name="Picture 13" descr=""/>
            <p:cNvPicPr/>
            <p:nvPr/>
          </p:nvPicPr>
          <p:blipFill>
            <a:blip r:embed="rId5"/>
            <a:stretch/>
          </p:blipFill>
          <p:spPr>
            <a:xfrm>
              <a:off x="3932280" y="2468520"/>
              <a:ext cx="59184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4"/>
            <p:cNvSpPr/>
            <p:nvPr/>
          </p:nvSpPr>
          <p:spPr>
            <a:xfrm>
              <a:off x="4376880" y="2724840"/>
              <a:ext cx="148680" cy="1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3246480" y="2606760"/>
            <a:ext cx="593280" cy="563400"/>
            <a:chOff x="3246480" y="2606760"/>
            <a:chExt cx="593280" cy="563400"/>
          </a:xfrm>
        </p:grpSpPr>
        <p:pic>
          <p:nvPicPr>
            <p:cNvPr id="168" name="Picture 16" descr=""/>
            <p:cNvPicPr/>
            <p:nvPr/>
          </p:nvPicPr>
          <p:blipFill>
            <a:blip r:embed="rId6"/>
            <a:stretch/>
          </p:blipFill>
          <p:spPr>
            <a:xfrm>
              <a:off x="3246480" y="2606760"/>
              <a:ext cx="5918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17"/>
            <p:cNvSpPr/>
            <p:nvPr/>
          </p:nvSpPr>
          <p:spPr>
            <a:xfrm>
              <a:off x="3691080" y="286272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18"/>
          <p:cNvGrpSpPr/>
          <p:nvPr/>
        </p:nvGrpSpPr>
        <p:grpSpPr>
          <a:xfrm>
            <a:off x="4525920" y="2103480"/>
            <a:ext cx="593640" cy="563400"/>
            <a:chOff x="4525920" y="2103480"/>
            <a:chExt cx="593640" cy="563400"/>
          </a:xfrm>
        </p:grpSpPr>
        <p:pic>
          <p:nvPicPr>
            <p:cNvPr id="171" name="Picture 19" descr=""/>
            <p:cNvPicPr/>
            <p:nvPr/>
          </p:nvPicPr>
          <p:blipFill>
            <a:blip r:embed="rId7"/>
            <a:stretch/>
          </p:blipFill>
          <p:spPr>
            <a:xfrm>
              <a:off x="4525920" y="210348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0"/>
            <p:cNvSpPr/>
            <p:nvPr/>
          </p:nvSpPr>
          <p:spPr>
            <a:xfrm>
              <a:off x="4970520" y="235944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Text Box 21"/>
          <p:cNvSpPr/>
          <p:nvPr/>
        </p:nvSpPr>
        <p:spPr>
          <a:xfrm>
            <a:off x="457200" y="914400"/>
            <a:ext cx="1828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10 laptops per mesh channel (3 channels) can collaborate with no wireless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99072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>
            <a:off x="2514600" y="2286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050840" cy="787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2201760" y="2384280"/>
            <a:ext cx="335160" cy="358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430360" y="2384280"/>
            <a:ext cx="549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/Rout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057400" y="27432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 flipH="1" flipV="1">
            <a:off x="1817640" y="2547720"/>
            <a:ext cx="4032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3521160" y="914400"/>
            <a:ext cx="1506240" cy="563400"/>
            <a:chOff x="3521160" y="914400"/>
            <a:chExt cx="1506240" cy="563400"/>
          </a:xfrm>
        </p:grpSpPr>
        <p:grpSp>
          <p:nvGrpSpPr>
            <p:cNvPr id="183" name="Group 8"/>
            <p:cNvGrpSpPr/>
            <p:nvPr/>
          </p:nvGrpSpPr>
          <p:grpSpPr>
            <a:xfrm>
              <a:off x="3521160" y="914400"/>
              <a:ext cx="592200" cy="563400"/>
              <a:chOff x="3521160" y="914400"/>
              <a:chExt cx="592200" cy="563400"/>
            </a:xfrm>
          </p:grpSpPr>
          <p:pic>
            <p:nvPicPr>
              <p:cNvPr id="184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5211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10"/>
              <p:cNvSpPr/>
              <p:nvPr/>
            </p:nvSpPr>
            <p:spPr>
              <a:xfrm>
                <a:off x="39643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1"/>
            <p:cNvGrpSpPr/>
            <p:nvPr/>
          </p:nvGrpSpPr>
          <p:grpSpPr>
            <a:xfrm>
              <a:off x="3978360" y="914400"/>
              <a:ext cx="592200" cy="563400"/>
              <a:chOff x="3978360" y="914400"/>
              <a:chExt cx="592200" cy="563400"/>
            </a:xfrm>
          </p:grpSpPr>
          <p:pic>
            <p:nvPicPr>
              <p:cNvPr id="187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9783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Rectangle 13"/>
              <p:cNvSpPr/>
              <p:nvPr/>
            </p:nvSpPr>
            <p:spPr>
              <a:xfrm>
                <a:off x="44215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4433760" y="914400"/>
              <a:ext cx="593640" cy="563400"/>
              <a:chOff x="4433760" y="914400"/>
              <a:chExt cx="593640" cy="563400"/>
            </a:xfrm>
          </p:grpSpPr>
          <p:pic>
            <p:nvPicPr>
              <p:cNvPr id="190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914400"/>
                <a:ext cx="59256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Rectangle 16"/>
              <p:cNvSpPr/>
              <p:nvPr/>
            </p:nvSpPr>
            <p:spPr>
              <a:xfrm>
                <a:off x="48787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17"/>
          <p:cNvGrpSpPr/>
          <p:nvPr/>
        </p:nvGrpSpPr>
        <p:grpSpPr>
          <a:xfrm>
            <a:off x="3490920" y="1477800"/>
            <a:ext cx="1506600" cy="563760"/>
            <a:chOff x="3490920" y="1477800"/>
            <a:chExt cx="1506600" cy="563760"/>
          </a:xfrm>
        </p:grpSpPr>
        <p:grpSp>
          <p:nvGrpSpPr>
            <p:cNvPr id="193" name="Group 18"/>
            <p:cNvGrpSpPr/>
            <p:nvPr/>
          </p:nvGrpSpPr>
          <p:grpSpPr>
            <a:xfrm>
              <a:off x="3490920" y="1477800"/>
              <a:ext cx="593280" cy="563760"/>
              <a:chOff x="3490920" y="1477800"/>
              <a:chExt cx="593280" cy="563760"/>
            </a:xfrm>
          </p:grpSpPr>
          <p:pic>
            <p:nvPicPr>
              <p:cNvPr id="194" name="Picture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0920" y="1477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Rectangle 20"/>
              <p:cNvSpPr/>
              <p:nvPr/>
            </p:nvSpPr>
            <p:spPr>
              <a:xfrm>
                <a:off x="3935520" y="1734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21"/>
            <p:cNvGrpSpPr/>
            <p:nvPr/>
          </p:nvGrpSpPr>
          <p:grpSpPr>
            <a:xfrm>
              <a:off x="3948120" y="1477800"/>
              <a:ext cx="592200" cy="563760"/>
              <a:chOff x="3948120" y="1477800"/>
              <a:chExt cx="592200" cy="563760"/>
            </a:xfrm>
          </p:grpSpPr>
          <p:pic>
            <p:nvPicPr>
              <p:cNvPr id="197" name="Pictur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81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Rectangle 23"/>
              <p:cNvSpPr/>
              <p:nvPr/>
            </p:nvSpPr>
            <p:spPr>
              <a:xfrm>
                <a:off x="43916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4"/>
            <p:cNvGrpSpPr/>
            <p:nvPr/>
          </p:nvGrpSpPr>
          <p:grpSpPr>
            <a:xfrm>
              <a:off x="4405320" y="1477800"/>
              <a:ext cx="592200" cy="563760"/>
              <a:chOff x="4405320" y="1477800"/>
              <a:chExt cx="592200" cy="563760"/>
            </a:xfrm>
          </p:grpSpPr>
          <p:pic>
            <p:nvPicPr>
              <p:cNvPr id="200" name="Pictur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53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26"/>
              <p:cNvSpPr/>
              <p:nvPr/>
            </p:nvSpPr>
            <p:spPr>
              <a:xfrm>
                <a:off x="48488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27"/>
          <p:cNvGrpSpPr/>
          <p:nvPr/>
        </p:nvGrpSpPr>
        <p:grpSpPr>
          <a:xfrm>
            <a:off x="3124080" y="1981080"/>
            <a:ext cx="1508400" cy="563760"/>
            <a:chOff x="3124080" y="1981080"/>
            <a:chExt cx="1508400" cy="563760"/>
          </a:xfrm>
        </p:grpSpPr>
        <p:grpSp>
          <p:nvGrpSpPr>
            <p:cNvPr id="203" name="Group 28"/>
            <p:cNvGrpSpPr/>
            <p:nvPr/>
          </p:nvGrpSpPr>
          <p:grpSpPr>
            <a:xfrm>
              <a:off x="3124080" y="1981080"/>
              <a:ext cx="594000" cy="563760"/>
              <a:chOff x="3124080" y="1981080"/>
              <a:chExt cx="594000" cy="563760"/>
            </a:xfrm>
          </p:grpSpPr>
          <p:pic>
            <p:nvPicPr>
              <p:cNvPr id="204" name="Pictur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30"/>
              <p:cNvSpPr/>
              <p:nvPr/>
            </p:nvSpPr>
            <p:spPr>
              <a:xfrm>
                <a:off x="35690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1"/>
            <p:cNvGrpSpPr/>
            <p:nvPr/>
          </p:nvGrpSpPr>
          <p:grpSpPr>
            <a:xfrm>
              <a:off x="3581280" y="1981080"/>
              <a:ext cx="594000" cy="563760"/>
              <a:chOff x="3581280" y="1981080"/>
              <a:chExt cx="594000" cy="563760"/>
            </a:xfrm>
          </p:grpSpPr>
          <p:pic>
            <p:nvPicPr>
              <p:cNvPr id="207" name="Pictur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812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Rectangle 33"/>
              <p:cNvSpPr/>
              <p:nvPr/>
            </p:nvSpPr>
            <p:spPr>
              <a:xfrm>
                <a:off x="40262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34"/>
            <p:cNvGrpSpPr/>
            <p:nvPr/>
          </p:nvGrpSpPr>
          <p:grpSpPr>
            <a:xfrm>
              <a:off x="4038480" y="1981080"/>
              <a:ext cx="594000" cy="563760"/>
              <a:chOff x="4038480" y="1981080"/>
              <a:chExt cx="594000" cy="563760"/>
            </a:xfrm>
          </p:grpSpPr>
          <p:pic>
            <p:nvPicPr>
              <p:cNvPr id="210" name="Picture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84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Rectangle 36"/>
              <p:cNvSpPr/>
              <p:nvPr/>
            </p:nvSpPr>
            <p:spPr>
              <a:xfrm>
                <a:off x="44834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37"/>
          <p:cNvSpPr/>
          <p:nvPr/>
        </p:nvSpPr>
        <p:spPr>
          <a:xfrm>
            <a:off x="0" y="914400"/>
            <a:ext cx="3657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20 Laptops / Access Poi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ore than 60 laptops and 3 Access Points requires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XS Serv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568520" y="2179800"/>
            <a:ext cx="777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X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 flipH="1" flipV="1">
            <a:off x="1366560" y="1153800"/>
            <a:ext cx="1760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143000" y="2743200"/>
            <a:ext cx="1508040" cy="561960"/>
            <a:chOff x="1143000" y="2743200"/>
            <a:chExt cx="1508040" cy="561960"/>
          </a:xfrm>
        </p:grpSpPr>
        <p:grpSp>
          <p:nvGrpSpPr>
            <p:cNvPr id="217" name="Group 5"/>
            <p:cNvGrpSpPr/>
            <p:nvPr/>
          </p:nvGrpSpPr>
          <p:grpSpPr>
            <a:xfrm>
              <a:off x="1143000" y="2743200"/>
              <a:ext cx="593640" cy="561960"/>
              <a:chOff x="1143000" y="2743200"/>
              <a:chExt cx="593640" cy="561960"/>
            </a:xfrm>
          </p:grpSpPr>
          <p:pic>
            <p:nvPicPr>
              <p:cNvPr id="21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Rectangle 7"/>
              <p:cNvSpPr/>
              <p:nvPr/>
            </p:nvSpPr>
            <p:spPr>
              <a:xfrm>
                <a:off x="15876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8"/>
            <p:cNvGrpSpPr/>
            <p:nvPr/>
          </p:nvGrpSpPr>
          <p:grpSpPr>
            <a:xfrm>
              <a:off x="1600200" y="2743200"/>
              <a:ext cx="593640" cy="561960"/>
              <a:chOff x="1600200" y="2743200"/>
              <a:chExt cx="593640" cy="561960"/>
            </a:xfrm>
          </p:grpSpPr>
          <p:pic>
            <p:nvPicPr>
              <p:cNvPr id="221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Rectangle 10"/>
              <p:cNvSpPr/>
              <p:nvPr/>
            </p:nvSpPr>
            <p:spPr>
              <a:xfrm>
                <a:off x="20448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1"/>
            <p:cNvGrpSpPr/>
            <p:nvPr/>
          </p:nvGrpSpPr>
          <p:grpSpPr>
            <a:xfrm>
              <a:off x="2057400" y="2743200"/>
              <a:ext cx="593640" cy="561960"/>
              <a:chOff x="2057400" y="2743200"/>
              <a:chExt cx="593640" cy="561960"/>
            </a:xfrm>
          </p:grpSpPr>
          <p:pic>
            <p:nvPicPr>
              <p:cNvPr id="224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Rectangle 13"/>
              <p:cNvSpPr/>
              <p:nvPr/>
            </p:nvSpPr>
            <p:spPr>
              <a:xfrm>
                <a:off x="25020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14"/>
          <p:cNvGrpSpPr/>
          <p:nvPr/>
        </p:nvGrpSpPr>
        <p:grpSpPr>
          <a:xfrm>
            <a:off x="3549600" y="1630440"/>
            <a:ext cx="1508040" cy="563400"/>
            <a:chOff x="3549600" y="1630440"/>
            <a:chExt cx="1508040" cy="563400"/>
          </a:xfrm>
        </p:grpSpPr>
        <p:grpSp>
          <p:nvGrpSpPr>
            <p:cNvPr id="227" name="Group 15"/>
            <p:cNvGrpSpPr/>
            <p:nvPr/>
          </p:nvGrpSpPr>
          <p:grpSpPr>
            <a:xfrm>
              <a:off x="3549600" y="1630440"/>
              <a:ext cx="593640" cy="563400"/>
              <a:chOff x="3549600" y="1630440"/>
              <a:chExt cx="593640" cy="563400"/>
            </a:xfrm>
          </p:grpSpPr>
          <p:pic>
            <p:nvPicPr>
              <p:cNvPr id="228" name="Pictur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96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Rectangle 17"/>
              <p:cNvSpPr/>
              <p:nvPr/>
            </p:nvSpPr>
            <p:spPr>
              <a:xfrm>
                <a:off x="39942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8"/>
            <p:cNvGrpSpPr/>
            <p:nvPr/>
          </p:nvGrpSpPr>
          <p:grpSpPr>
            <a:xfrm>
              <a:off x="4006800" y="1630440"/>
              <a:ext cx="593640" cy="563400"/>
              <a:chOff x="4006800" y="1630440"/>
              <a:chExt cx="593640" cy="563400"/>
            </a:xfrm>
          </p:grpSpPr>
          <p:pic>
            <p:nvPicPr>
              <p:cNvPr id="231" name="Picture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Rectangle 20"/>
              <p:cNvSpPr/>
              <p:nvPr/>
            </p:nvSpPr>
            <p:spPr>
              <a:xfrm>
                <a:off x="44514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1"/>
            <p:cNvGrpSpPr/>
            <p:nvPr/>
          </p:nvGrpSpPr>
          <p:grpSpPr>
            <a:xfrm>
              <a:off x="4464000" y="1630440"/>
              <a:ext cx="593640" cy="563400"/>
              <a:chOff x="4464000" y="1630440"/>
              <a:chExt cx="593640" cy="563400"/>
            </a:xfrm>
          </p:grpSpPr>
          <p:pic>
            <p:nvPicPr>
              <p:cNvPr id="234" name="Pictur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Rectangle 23"/>
              <p:cNvSpPr/>
              <p:nvPr/>
            </p:nvSpPr>
            <p:spPr>
              <a:xfrm>
                <a:off x="49086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24"/>
          <p:cNvGrpSpPr/>
          <p:nvPr/>
        </p:nvGrpSpPr>
        <p:grpSpPr>
          <a:xfrm>
            <a:off x="3505320" y="2224080"/>
            <a:ext cx="1506240" cy="563400"/>
            <a:chOff x="3505320" y="2224080"/>
            <a:chExt cx="1506240" cy="563400"/>
          </a:xfrm>
        </p:grpSpPr>
        <p:grpSp>
          <p:nvGrpSpPr>
            <p:cNvPr id="237" name="Group 25"/>
            <p:cNvGrpSpPr/>
            <p:nvPr/>
          </p:nvGrpSpPr>
          <p:grpSpPr>
            <a:xfrm>
              <a:off x="3505320" y="2224080"/>
              <a:ext cx="593280" cy="563400"/>
              <a:chOff x="3505320" y="2224080"/>
              <a:chExt cx="593280" cy="563400"/>
            </a:xfrm>
          </p:grpSpPr>
          <p:pic>
            <p:nvPicPr>
              <p:cNvPr id="238" name="Pictur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5320" y="222408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Rectangle 27"/>
              <p:cNvSpPr/>
              <p:nvPr/>
            </p:nvSpPr>
            <p:spPr>
              <a:xfrm>
                <a:off x="3950280" y="2480040"/>
                <a:ext cx="14832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8"/>
            <p:cNvGrpSpPr/>
            <p:nvPr/>
          </p:nvGrpSpPr>
          <p:grpSpPr>
            <a:xfrm>
              <a:off x="3962520" y="2224080"/>
              <a:ext cx="591840" cy="563400"/>
              <a:chOff x="3962520" y="2224080"/>
              <a:chExt cx="591840" cy="563400"/>
            </a:xfrm>
          </p:grpSpPr>
          <p:pic>
            <p:nvPicPr>
              <p:cNvPr id="241" name="Pictur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Rectangle 30"/>
              <p:cNvSpPr/>
              <p:nvPr/>
            </p:nvSpPr>
            <p:spPr>
              <a:xfrm>
                <a:off x="44053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1"/>
            <p:cNvGrpSpPr/>
            <p:nvPr/>
          </p:nvGrpSpPr>
          <p:grpSpPr>
            <a:xfrm>
              <a:off x="4419720" y="2224080"/>
              <a:ext cx="591840" cy="563400"/>
              <a:chOff x="4419720" y="2224080"/>
              <a:chExt cx="591840" cy="563400"/>
            </a:xfrm>
          </p:grpSpPr>
          <p:pic>
            <p:nvPicPr>
              <p:cNvPr id="244" name="Pictur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97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Rectangle 33"/>
              <p:cNvSpPr/>
              <p:nvPr/>
            </p:nvSpPr>
            <p:spPr>
              <a:xfrm>
                <a:off x="48625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34"/>
          <p:cNvGrpSpPr/>
          <p:nvPr/>
        </p:nvGrpSpPr>
        <p:grpSpPr>
          <a:xfrm>
            <a:off x="2971800" y="2863800"/>
            <a:ext cx="1506600" cy="563760"/>
            <a:chOff x="2971800" y="2863800"/>
            <a:chExt cx="1506600" cy="563760"/>
          </a:xfrm>
        </p:grpSpPr>
        <p:grpSp>
          <p:nvGrpSpPr>
            <p:cNvPr id="247" name="Group 35"/>
            <p:cNvGrpSpPr/>
            <p:nvPr/>
          </p:nvGrpSpPr>
          <p:grpSpPr>
            <a:xfrm>
              <a:off x="2971800" y="2863800"/>
              <a:ext cx="593280" cy="563760"/>
              <a:chOff x="2971800" y="2863800"/>
              <a:chExt cx="593280" cy="563760"/>
            </a:xfrm>
          </p:grpSpPr>
          <p:pic>
            <p:nvPicPr>
              <p:cNvPr id="248" name="Pictur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2863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Rectangle 37"/>
              <p:cNvSpPr/>
              <p:nvPr/>
            </p:nvSpPr>
            <p:spPr>
              <a:xfrm>
                <a:off x="3416400" y="3120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8"/>
            <p:cNvGrpSpPr/>
            <p:nvPr/>
          </p:nvGrpSpPr>
          <p:grpSpPr>
            <a:xfrm>
              <a:off x="3429000" y="2863800"/>
              <a:ext cx="592200" cy="563760"/>
              <a:chOff x="3429000" y="2863800"/>
              <a:chExt cx="592200" cy="563760"/>
            </a:xfrm>
          </p:grpSpPr>
          <p:pic>
            <p:nvPicPr>
              <p:cNvPr id="251" name="Picture 39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290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Rectangle 40"/>
              <p:cNvSpPr/>
              <p:nvPr/>
            </p:nvSpPr>
            <p:spPr>
              <a:xfrm>
                <a:off x="38725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41"/>
            <p:cNvGrpSpPr/>
            <p:nvPr/>
          </p:nvGrpSpPr>
          <p:grpSpPr>
            <a:xfrm>
              <a:off x="3886200" y="2863800"/>
              <a:ext cx="592200" cy="563760"/>
              <a:chOff x="3886200" y="2863800"/>
              <a:chExt cx="592200" cy="563760"/>
            </a:xfrm>
          </p:grpSpPr>
          <p:pic>
            <p:nvPicPr>
              <p:cNvPr id="254" name="Picture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862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Rectangle 43"/>
              <p:cNvSpPr/>
              <p:nvPr/>
            </p:nvSpPr>
            <p:spPr>
              <a:xfrm>
                <a:off x="43297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56" name="Picture 44" descr=""/>
          <p:cNvPicPr/>
          <p:nvPr/>
        </p:nvPicPr>
        <p:blipFill>
          <a:blip r:embed="rId13"/>
          <a:stretch/>
        </p:blipFill>
        <p:spPr>
          <a:xfrm>
            <a:off x="685800" y="1158840"/>
            <a:ext cx="1052640" cy="785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5" descr=""/>
          <p:cNvPicPr/>
          <p:nvPr/>
        </p:nvPicPr>
        <p:blipFill>
          <a:blip r:embed="rId14"/>
          <a:stretch/>
        </p:blipFill>
        <p:spPr>
          <a:xfrm>
            <a:off x="1752480" y="1676520"/>
            <a:ext cx="611280" cy="639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6" descr=""/>
          <p:cNvPicPr/>
          <p:nvPr/>
        </p:nvPicPr>
        <p:blipFill>
          <a:blip r:embed="rId15"/>
          <a:stretch/>
        </p:blipFill>
        <p:spPr>
          <a:xfrm>
            <a:off x="2529000" y="1173240"/>
            <a:ext cx="334800" cy="36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7" descr=""/>
          <p:cNvPicPr/>
          <p:nvPr/>
        </p:nvPicPr>
        <p:blipFill>
          <a:blip r:embed="rId16"/>
          <a:stretch/>
        </p:blipFill>
        <p:spPr>
          <a:xfrm>
            <a:off x="2849400" y="1676520"/>
            <a:ext cx="333360" cy="358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8" descr=""/>
          <p:cNvPicPr/>
          <p:nvPr/>
        </p:nvPicPr>
        <p:blipFill>
          <a:blip r:embed="rId17"/>
          <a:stretch/>
        </p:blipFill>
        <p:spPr>
          <a:xfrm>
            <a:off x="2666880" y="2179800"/>
            <a:ext cx="333360" cy="358560"/>
          </a:xfrm>
          <a:prstGeom prst="rect">
            <a:avLst/>
          </a:prstGeom>
          <a:ln w="0">
            <a:noFill/>
          </a:ln>
        </p:spPr>
      </p:pic>
      <p:sp>
        <p:nvSpPr>
          <p:cNvPr id="261" name="Line 49"/>
          <p:cNvSpPr/>
          <p:nvPr/>
        </p:nvSpPr>
        <p:spPr>
          <a:xfrm flipV="1">
            <a:off x="2163600" y="1474920"/>
            <a:ext cx="41148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0"/>
          <p:cNvSpPr/>
          <p:nvPr/>
        </p:nvSpPr>
        <p:spPr>
          <a:xfrm flipV="1">
            <a:off x="2209680" y="1885680"/>
            <a:ext cx="6858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51"/>
          <p:cNvSpPr/>
          <p:nvPr/>
        </p:nvSpPr>
        <p:spPr>
          <a:xfrm>
            <a:off x="2209680" y="2087640"/>
            <a:ext cx="5479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2757600" y="1173240"/>
            <a:ext cx="3204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3"/>
          <p:cNvSpPr/>
          <p:nvPr/>
        </p:nvSpPr>
        <p:spPr>
          <a:xfrm>
            <a:off x="2482560" y="14940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2803320" y="199692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6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2574720" y="2500200"/>
            <a:ext cx="3052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56"/>
          <p:cNvSpPr/>
          <p:nvPr/>
        </p:nvSpPr>
        <p:spPr>
          <a:xfrm flipH="1" flipV="1">
            <a:off x="1504800" y="1521000"/>
            <a:ext cx="40320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7"/>
          <p:cNvSpPr/>
          <p:nvPr/>
        </p:nvSpPr>
        <p:spPr>
          <a:xfrm>
            <a:off x="3063960" y="620640"/>
            <a:ext cx="2879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-40 laptops per A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0 laptops per school server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quires RF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12-18T19:26:04Z</dcterms:modified>
  <cp:revision>1</cp:revision>
  <dc:subject/>
  <dc:title>One Laptop per Child</dc:title>
</cp:coreProperties>
</file>